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E87-58E8-4EA3-BF0E-BFAAEB46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51C-5359-4320-BD4E-CFED69ED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23A-D3EE-434A-9840-279ED118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DFB-B586-42F2-A876-44B826F2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608-0FF4-428B-A968-9386F60C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2E3-3532-4E37-BC5A-E856F15F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6E7-19C7-45CE-9B6A-11D390F3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12B-0905-4499-823A-BDD42F8F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F3A-CD91-458F-BBD3-C76683A7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A26-5085-4864-8A4D-266D68E2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0E7-9781-4007-846C-FB26AAD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EBA-81A4-4B02-A972-9C61233D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2466-56DD-400C-8E5F-2606364A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621800">
            <a:off x="-228600" y="1905120"/>
            <a:ext cx="745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50196"/>
                      </a:srgbClr>
                    </a:gs>
                    <a:gs pos="100000">
                      <a:srgbClr val="0acff6"/>
                    </a:gs>
                  </a:gsLst>
                  <a:lin ang="5400000"/>
                </a:gradFill>
                <a:latin typeface="Times New Roman"/>
              </a:rPr>
              <a:t>Construcción de la etapa: para la gente que desea má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>
                      <a:alpha val="50196"/>
                    </a:srgbClr>
                  </a:gs>
                  <a:gs pos="100000">
                    <a:srgbClr val="0acff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21105000">
            <a:off x="1294920" y="4647960"/>
            <a:ext cx="4648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Tw Cen MT"/>
              </a:rPr>
              <a:t>La construcción de la etapa guarda interesar de las cos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Tw Cen MT"/>
              <a:ea typeface="Tw Cen M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-533520" y="6324480"/>
            <a:ext cx="7153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strucción de la etapa: construido a la perfecció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20:00:55Z</dcterms:created>
  <dc:creator> </dc:creator>
  <dc:description/>
  <dc:language>en-US</dc:language>
  <cp:lastModifiedBy> </cp:lastModifiedBy>
  <dcterms:modified xsi:type="dcterms:W3CDTF">2009-09-21T20:06:30Z</dcterms:modified>
  <cp:revision>3</cp:revision>
  <dc:subject/>
  <dc:title>Slide 1</dc:title>
</cp:coreProperties>
</file>